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90BD-2001-4389-B816-02833368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7C53-1DE6-4E41-ADA6-AB127014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99C7-41A5-4F46-A99E-F649BBCB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AD51-17B1-4EEC-AF77-25821D5E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88AB-69D0-4FAB-833E-F0FEE56A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7C69-13E8-47E5-9C22-8C3ED404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AA9F-61EB-4CF1-A369-B5672D8F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DED9-FC62-442C-9F23-8AE05DA0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B5FE-3D7E-4B3D-B6E7-B441D87F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C7F0-D335-4467-92BE-86A51C76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6790-4D33-4535-B058-BA32CACF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062A-7D3F-45B6-97C3-F942C4D6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D2C3-0647-4078-BBB3-A9A2CA773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60520"/>
            <a:ext cx="9144000" cy="57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52640" y="1467000"/>
            <a:ext cx="5238720" cy="3924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47920" y="3808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DIVOS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142884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90720" y="685800"/>
            <a:ext cx="69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COW THE RED SQU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Perm central square"/>
          <p:cNvPicPr/>
          <p:nvPr/>
        </p:nvPicPr>
        <p:blipFill>
          <a:blip r:embed="rId1"/>
          <a:stretch/>
        </p:blipFill>
        <p:spPr>
          <a:xfrm>
            <a:off x="1752480" y="131436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76520" y="457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 CENTRAL SQU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57200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00200" y="45720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D CATHEDERAL   OMSK,RUS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035680" cy="5867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19320" y="2286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RUSSIAN ORTHODOX  OMSK,RUS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620120" cy="4579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2286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 RI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619280"/>
            <a:ext cx="5333760" cy="3619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19320" y="5335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nisey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974880"/>
            <a:ext cx="6782040" cy="4748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05120" y="228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KE BAI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6:47:28Z</dcterms:created>
  <dc:creator>calistusezeokafor</dc:creator>
  <dc:description/>
  <dc:language>en-US</dc:language>
  <cp:lastModifiedBy>calistusezeokafor</cp:lastModifiedBy>
  <dcterms:modified xsi:type="dcterms:W3CDTF">2008-11-25T17:09:14Z</dcterms:modified>
  <cp:revision>6</cp:revision>
  <dc:subject/>
  <dc:title>Slide 1</dc:title>
</cp:coreProperties>
</file>